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753-CC56-4DF5-8FC5-1ED95176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5FC-9458-4B0C-8ABA-906414DC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693-84C2-4966-90CD-5407CE15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2D2-9F9D-409A-9E42-991D8ABE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CF2-FF2E-4338-B319-B870EEAC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147-683B-4760-A911-3B971EBF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D40-254A-45B7-B7B6-C319FABD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5A2-73E1-42B6-85C7-081F9E87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7C0-1691-475A-971D-7D580DD9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407-A313-4C26-ABC9-C3362F9B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49F-FD7E-4B64-B26B-6FAEFA23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838-DBCD-4C0B-878A-733DB71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84B4-98B1-4294-BDCF-91D3E2E60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05920" y="2438280"/>
            <a:ext cx="75960" cy="6858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438280"/>
            <a:ext cx="76320" cy="6858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685800"/>
            <a:ext cx="7315200" cy="4572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257800"/>
            <a:ext cx="1600200" cy="1143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5257800"/>
            <a:ext cx="68580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525780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5257800"/>
            <a:ext cx="76212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257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438280"/>
            <a:ext cx="2666880" cy="2819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ing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2960" y="684360"/>
            <a:ext cx="2587320" cy="1755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t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685800"/>
            <a:ext cx="3429000" cy="2133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ing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3352680"/>
            <a:ext cx="2667240" cy="1905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h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685800"/>
            <a:ext cx="685800" cy="2362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304920"/>
            <a:ext cx="281952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6324480"/>
            <a:ext cx="0" cy="152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6324480"/>
            <a:ext cx="0" cy="228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6324480"/>
            <a:ext cx="0" cy="228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5181480"/>
            <a:ext cx="0" cy="228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181480"/>
            <a:ext cx="0" cy="228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19112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373392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57200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03848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175248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220968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609480"/>
            <a:ext cx="0" cy="381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3200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3200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2860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860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2666880"/>
            <a:ext cx="0" cy="381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609480"/>
            <a:ext cx="0" cy="381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4724280"/>
            <a:ext cx="6858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68580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68580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685800"/>
            <a:ext cx="114300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5600" y="68580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od-Burning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95680" y="2133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724280" y="21337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34340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2209680"/>
            <a:ext cx="457200" cy="8384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V-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72428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219320"/>
            <a:ext cx="457200" cy="1218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124080"/>
            <a:ext cx="45720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1219320"/>
            <a:ext cx="380880" cy="1218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3124080"/>
            <a:ext cx="38088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-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480060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4724280"/>
            <a:ext cx="60948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259092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259092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0"/>
            <a:ext cx="121932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V-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609480"/>
            <a:ext cx="53352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u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11430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ain 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33520"/>
            <a:ext cx="76320" cy="2361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819520"/>
            <a:ext cx="304920" cy="759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0"/>
            <a:ext cx="678168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609480"/>
            <a:ext cx="15228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191120"/>
            <a:ext cx="7632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4114800"/>
            <a:ext cx="7596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5257800"/>
            <a:ext cx="60984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5257800"/>
            <a:ext cx="38088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5257800"/>
            <a:ext cx="22860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257800"/>
            <a:ext cx="685800" cy="763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6858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4114800"/>
            <a:ext cx="30456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5486400"/>
            <a:ext cx="38124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410080"/>
            <a:ext cx="30456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5791320"/>
            <a:ext cx="38088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5791320"/>
            <a:ext cx="38088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5791320"/>
            <a:ext cx="38088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8672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791320"/>
            <a:ext cx="38124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58672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5867280"/>
            <a:ext cx="38124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8672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100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58672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548640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5867280"/>
            <a:ext cx="38088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5867280"/>
            <a:ext cx="38124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733920"/>
            <a:ext cx="38088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763120" y="3733920"/>
            <a:ext cx="380880" cy="304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343400"/>
            <a:ext cx="381240" cy="304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erisca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erisca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28954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886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96080" y="3200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6477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114800" y="518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504960" y="4419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52320" y="19051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352320" y="20574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809880" y="533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80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09480"/>
            <a:ext cx="7315200" cy="4572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5562720"/>
            <a:ext cx="2209680" cy="1295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34320" y="5181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8001000" y="51811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5181480"/>
            <a:ext cx="1600200" cy="1143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c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228600"/>
            <a:ext cx="198108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35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3276720"/>
            <a:ext cx="1828800" cy="19047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rcade-Work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-Playr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3352680"/>
            <a:ext cx="1371600" cy="18288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-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2209680"/>
            <a:ext cx="304920" cy="8384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609480"/>
            <a:ext cx="236232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609480"/>
            <a:ext cx="11430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1676520"/>
            <a:ext cx="457200" cy="304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1219320"/>
            <a:ext cx="1447920" cy="7617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ater Trea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609480"/>
            <a:ext cx="60948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609480"/>
            <a:ext cx="2895480" cy="19814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ster Bed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590920"/>
            <a:ext cx="380880" cy="1447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038480"/>
            <a:ext cx="2057400" cy="1143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-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2514600"/>
            <a:ext cx="182880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590920"/>
            <a:ext cx="1828800" cy="25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2590920"/>
            <a:ext cx="762120" cy="1295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n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990720"/>
            <a:ext cx="838080" cy="10666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i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143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2952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1447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286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286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28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213372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640080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72428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4724280"/>
            <a:ext cx="6094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V-H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5029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5029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19051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19051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30481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30481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3200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3200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3886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23623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236232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886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5146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121932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914400"/>
            <a:ext cx="304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58128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373392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5029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0292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486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29600" y="5486400"/>
            <a:ext cx="0" cy="3808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464832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800600"/>
            <a:ext cx="3045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57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457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685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5105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3886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514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24382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428640" y="1066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23888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3124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4724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50292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77320" y="5486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051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04920"/>
            <a:ext cx="7315200" cy="4572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5553000"/>
            <a:ext cx="2209680" cy="1295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934320" y="4876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48769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9810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98108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342900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198108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198108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198108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342900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342900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3429000"/>
            <a:ext cx="1600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29000" y="1981080"/>
            <a:ext cx="9144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 CEL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205740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205740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205740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205740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05740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03848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0512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403848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403848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4038480"/>
            <a:ext cx="3808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4038480"/>
            <a:ext cx="3812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6688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168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350532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8148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53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2971800"/>
            <a:ext cx="685800" cy="380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3200400"/>
            <a:ext cx="335268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 CEL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920" y="464796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3341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lack Heat C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48769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51055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8880" y="48769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51055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96080" y="53341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53341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341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38880" y="64008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66294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34320" y="64008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62485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60199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57913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55627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43800" y="55627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43800" y="59436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43800" y="61722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43800" y="64008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66294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38880" y="57150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38880" y="59436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61722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839080" y="64008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839080" y="62485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55627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29600" y="55627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534520" y="556272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839080" y="60199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839080" y="57913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39080" y="55627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9600" y="60199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29600" y="57913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534520" y="59436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534520" y="61722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534520" y="64008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34520" y="66294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57913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24680" y="61722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4680" y="64008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9600" y="66294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9600" y="624852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924680" y="6629400"/>
            <a:ext cx="30492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48720" y="5943600"/>
            <a:ext cx="304560" cy="228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34320" y="6095880"/>
            <a:ext cx="220968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4320" y="6095880"/>
            <a:ext cx="68580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0120" y="6095880"/>
            <a:ext cx="53316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91520" y="6095880"/>
            <a:ext cx="53316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24680" y="6095880"/>
            <a:ext cx="68580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10480" y="6095880"/>
            <a:ext cx="53352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5638680"/>
            <a:ext cx="175248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 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609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8380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1676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1828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066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95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447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304920"/>
            <a:ext cx="30456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9568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304920"/>
            <a:ext cx="30456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04920"/>
            <a:ext cx="30456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0080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10280" y="304920"/>
            <a:ext cx="304920" cy="16761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6094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8380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10666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29528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4479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167652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1828800"/>
            <a:ext cx="701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0" y="762120"/>
            <a:ext cx="2209680" cy="304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 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198108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7619760" y="19810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848720" y="46479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754344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43800" y="47242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72400" y="4724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48720" y="4876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29600" y="48006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with PV from 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620120" y="1980720"/>
            <a:ext cx="30456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01000" y="2286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1532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02:09:19Z</dcterms:created>
  <dc:creator>Richard Lee</dc:creator>
  <dc:description/>
  <dc:language>en-US</dc:language>
  <cp:lastModifiedBy>RVCSchools</cp:lastModifiedBy>
  <dcterms:modified xsi:type="dcterms:W3CDTF">2009-09-29T13:09:58Z</dcterms:modified>
  <cp:revision>6</cp:revision>
  <dc:subject/>
  <dc:title>PowerPoint Presentation</dc:title>
</cp:coreProperties>
</file>